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2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F8A8-1858-4674-BDD1-A1F4A0BE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E7B-13CE-4BCF-9B3E-E4E50700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903-3D01-4FCE-B960-66FBA8BC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BC86-B6A4-42B0-A0A4-D9E46FD5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EBCD0-D549-4166-BDD2-ADD8E5C3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7959C-F03E-45D5-B556-BD28B994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D187C-9410-4FEE-818F-41045361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B19E3-CC5C-4765-85A6-A8FC0613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1D273-816E-48F4-8EF9-4C3F170C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01E51-64CA-4F2D-AE91-8D9FA5C6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76BD2-152D-4DA8-A74C-E7E8FE7B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5EE3-F021-4F28-9535-3D4E18AF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63B4C-4A10-48C9-BB0F-E7AC28E5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17658-71E7-4D63-9D9C-92FB9613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B4CFD-80B0-4106-BC92-CE9081BC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A7E46-80BF-43F6-B15B-93C8B784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7EBFC-83BF-47B8-B401-EDE9854D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1B8-F039-43C2-AADF-0051AFA0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21D-3952-40DE-AA7C-1FDAB272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170-9B30-43CF-AC35-1AF316AC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4ED-1336-4D42-904A-567E63ED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D1B-87CF-4F90-AD78-822B00E4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39A-46ED-44BB-9E31-EA31F828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1079-81A4-439C-A278-7F58ED2A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BB52-AE75-40BB-8BB0-BD49D2AE2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91B7-F899-484D-BE43-D63978DAE1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hyperlink" Target="http://upload.wikimedia.org/wikipedia/commons/8/86/Murray_river_%28Australia%29_map-fr.svg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www.google.com.au/imgres?imgurl=http://media-2.web.britannica.com/eb-media/99/9899-004-0DC64C91.jpg&amp;imgrefurl=http://www.britannica.com/EBchecked/topic-art/398303/13143/Murray-River-near-Tintalba-New-South-Wales&amp;h=300&amp;w=302&amp;sz=50&amp;tbnid=2Txq31bEzK4oiM::&amp;tbnh=115&amp;tbnw=116&amp;prev=/images%3Fq%3Dmurray%2Briver&amp;usg=__ceiYO3-rWK84DdCX2RWM0CpvTwk=&amp;ei=OWmvSYbrN5m0sQPz08mDAQ&amp;sa=X&amp;oi=image_result&amp;resnum=6&amp;ct=image&amp;cd=1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hyperlink" Target="http://www.murrayriver.com.au/houseboats/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urrayriver.com.au/water-cruises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murrayriver.com.au/houseboats/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murrayriver.com.au/about-the-murray/fun-things-for-kids/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www.murrayriver.com.au/paddleboats/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www.murrayriver.com.au/about-the-murray/murray-canoe-kayaking/" TargetMode="External"/><Relationship Id="rId10" Type="http://schemas.openxmlformats.org/officeDocument/2006/relationships/image" Target="../media/image18.jpeg"/><Relationship Id="rId11" Type="http://schemas.openxmlformats.org/officeDocument/2006/relationships/hyperlink" Target="http://www.murrayriver.com.au/river-towns/explore-the-mallee/" TargetMode="External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www.rosalieforest.com/_pictures/3rivers_pond.jpg&amp;imgrefurl=http://www.rosalieforest.com/&amp;h=300&amp;w=400&amp;sz=90&amp;tbnid=_4A5sDgefCKDDM::&amp;tbnh=93&amp;tbnw=124&amp;prev=/images%3Fq%3Dpictures%2Bof%2Brivers&amp;usg=__biqGz4EEjg3EHK-YURtyOb1a9dE=&amp;ei=5EiuSaLtJ5nMsAPOu7CtDg&amp;sa=X&amp;oi=image_result&amp;resnum=1&amp;ct=image&amp;cd=1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google.com.au/imgres?imgurl=http://www.hickerphoto.com/data/media/170/rainforest_rivers_t0427.jpg&amp;imgrefurl=http://www.hickerphoto.com/rainforest-rivers-9181-tile.htm&amp;h=311&amp;w=468&amp;sz=53&amp;tbnid=LTDWNqdw9Y6o-M::&amp;tbnh=85&amp;tbnw=128&amp;prev=/images%3Fq%3Dpictures%2Bof%2Brivers&amp;usg=__ACA5zapWjArdE4tWCxmyjPt5Knw=&amp;ei=5EiuSaLtJ5nMsAPOu7CtDg&amp;sa=X&amp;oi=image_result&amp;resnum=2&amp;ct=image&amp;cd=1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www.google.com.au/imgres?imgurl=http://www.mvs.usace.army.mil/Rivers/images/Rivers.jpg&amp;imgrefurl=http://www.mvs.usace.army.mil/Rivers/&amp;h=431&amp;w=640&amp;sz=36&amp;tbnid=4DD7of8vs71WAM::&amp;tbnh=92&amp;tbnw=137&amp;prev=/images%3Fq%3Dpictures%2Bof%2Brivers&amp;usg=__s9jEOMitokTpOL9tFWE60WMhbh8=&amp;ei=5EiuSaLtJ5nMsAPOu7CtDg&amp;sa=X&amp;oi=image_result&amp;resnum=3&amp;ct=image&amp;cd=1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www.google.com.au/imgres?imgurl=http://growabrain.typepad.com/photos/south_island/rivers.jpg&amp;imgrefurl=http://growabrain.typepad.com/photos/south_island/rivers.html&amp;h=375&amp;w=500&amp;sz=74&amp;tbnid=47gH6NtqG8ol8M::&amp;tbnh=98&amp;tbnw=130&amp;prev=/images%3Fq%3Dpictures%2Bof%2Brivers&amp;usg=__CPf4w2kTfk_Nprle4apeDOd6-z8=&amp;ei=5EiuSaLtJ5nMsAPOu7CtDg&amp;sa=X&amp;oi=image_result&amp;resnum=4&amp;ct=image&amp;cd=1" TargetMode="External"/><Relationship Id="rId8" Type="http://schemas.openxmlformats.org/officeDocument/2006/relationships/image" Target="../media/image26.jpeg"/><Relationship Id="rId9" Type="http://schemas.openxmlformats.org/officeDocument/2006/relationships/hyperlink" Target="http://physicaplus.org.il/zope/home/en/1124811264/1141060775rivers_en/zope/sites/physicaplus/home/en/1124811264/1141060775rivers_en/zope/sites/physicaplus/home/en/1124811264/1141060775rivers_en/rivers2.jpg" TargetMode="External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 rot="5400000">
            <a:off x="247320" y="3105000"/>
            <a:ext cx="64008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Rive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715000" y="4267080"/>
            <a:ext cx="3200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y Anastasi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00cc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57200" y="1905120"/>
            <a:ext cx="8228880" cy="4113360"/>
            <a:chOff x="457200" y="1905120"/>
            <a:chExt cx="8228880" cy="4113360"/>
          </a:xfrm>
        </p:grpSpPr>
        <p:cxnSp>
          <p:nvCxnSpPr>
            <p:cNvPr id="143" name="_s44044"/>
            <p:cNvCxnSpPr>
              <a:stCxn id="144" idx="0"/>
              <a:endCxn id="145" idx="2"/>
            </p:cNvCxnSpPr>
            <p:nvPr/>
          </p:nvCxnSpPr>
          <p:spPr>
            <a:xfrm flipV="1" rot="16200000">
              <a:off x="5599800" y="2520720"/>
              <a:ext cx="823320" cy="288072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44043"/>
            <p:cNvCxnSpPr>
              <a:stCxn id="147" idx="0"/>
              <a:endCxn id="145" idx="2"/>
            </p:cNvCxnSpPr>
            <p:nvPr/>
          </p:nvCxnSpPr>
          <p:spPr>
            <a:xfrm flipV="1">
              <a:off x="4571280" y="3549600"/>
              <a:ext cx="3240" cy="823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44042"/>
            <p:cNvCxnSpPr>
              <a:stCxn id="149" idx="0"/>
              <a:endCxn id="145" idx="2"/>
            </p:cNvCxnSpPr>
            <p:nvPr/>
          </p:nvCxnSpPr>
          <p:spPr>
            <a:xfrm flipH="1" flipV="1" rot="5400000">
              <a:off x="2719800" y="2521080"/>
              <a:ext cx="823320" cy="288072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5" name="_s44038"/>
            <p:cNvSpPr/>
            <p:nvPr/>
          </p:nvSpPr>
          <p:spPr>
            <a:xfrm>
              <a:off x="3337200" y="190512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Sizes of rivers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44039"/>
            <p:cNvSpPr/>
            <p:nvPr/>
          </p:nvSpPr>
          <p:spPr>
            <a:xfrm>
              <a:off x="457200" y="437328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smal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44040"/>
            <p:cNvSpPr/>
            <p:nvPr/>
          </p:nvSpPr>
          <p:spPr>
            <a:xfrm>
              <a:off x="3337200" y="437328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mediu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44041"/>
            <p:cNvSpPr/>
            <p:nvPr/>
          </p:nvSpPr>
          <p:spPr>
            <a:xfrm>
              <a:off x="6217560" y="437328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hug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"/>
          <p:cNvSpPr txBox="1"/>
          <p:nvPr/>
        </p:nvSpPr>
        <p:spPr>
          <a:xfrm>
            <a:off x="304920" y="533520"/>
            <a:ext cx="9144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izes of rivers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66ff33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001000" cy="4267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28600" y="457200"/>
            <a:ext cx="8381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water life cycl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8229600" cy="3668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219320" y="762120"/>
            <a:ext cx="6933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iver systems of the Worl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1192"/>
            </a:gs>
            <a:gs pos="50000">
              <a:srgbClr val="e193e3"/>
            </a:gs>
            <a:gs pos="100000">
              <a:srgbClr val="b511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le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ga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nube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al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nieper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niester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hine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14400" y="304920"/>
            <a:ext cx="7162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mous river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-129528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2133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24280" y="313920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located in Russia, Europ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3 692km l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the 16th larg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ver in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the largest riv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Europe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09960" y="2514600"/>
            <a:ext cx="3429000" cy="3781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523880" y="457200"/>
            <a:ext cx="60962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Volga Riv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ffffff"/>
                </a:solidFill>
                <a:latin typeface="Tahoma"/>
              </a:rPr>
              <a:t>How long is the Nile River?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- The Nile River is </a:t>
            </a: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6695 kilometes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(4184 miles) long. The Nile River is believed to be the longest river in the worl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23880" y="304920"/>
            <a:ext cx="6172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Nile Riv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2171880" cy="3505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See full size image"/>
          <p:cNvPicPr/>
          <p:nvPr/>
        </p:nvPicPr>
        <p:blipFill>
          <a:blip r:embed="rId3"/>
          <a:stretch/>
        </p:blipFill>
        <p:spPr>
          <a:xfrm>
            <a:off x="2666880" y="4038480"/>
            <a:ext cx="3276720" cy="2438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44a9ee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urray river is th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gest in Austral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op photo is 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cture of how the R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to look. T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rray is 2,575 KM lo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457200"/>
            <a:ext cx="6324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urray riv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" descr="File:Murray river (Australia) map-fr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3809880"/>
            <a:ext cx="2689200" cy="2570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http://www.britannica.com/EBchecked/topic-art/398303/13143/Murray-River-near-Tintalba-New-South-Wale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86200" y="4191120"/>
            <a:ext cx="1905120" cy="2057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6248520" y="1828800"/>
            <a:ext cx="2438280" cy="1676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33720" y="-129528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6705720" y="5257440"/>
            <a:ext cx="76176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8077320" y="5867280"/>
            <a:ext cx="30456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6324480"/>
            <a:ext cx="2286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035a"/>
                </a:solidFill>
                <a:latin typeface="Tahoma"/>
              </a:rPr>
              <a:t>Murray 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9900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the Murray river you can stay the night on a house bo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an also go fish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an camp the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an explo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 canoe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take photos of t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autiful riv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have family fu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discover new th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28600"/>
            <a:ext cx="7867800" cy="14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ngs to do at the Murray riv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Murray River, The Murray - landscape sunrise/sunset river/creek"/>
          <p:cNvPicPr/>
          <p:nvPr/>
        </p:nvPicPr>
        <p:blipFill>
          <a:blip r:embed="rId3"/>
          <a:stretch/>
        </p:blipFill>
        <p:spPr>
          <a:xfrm>
            <a:off x="5562720" y="4910040"/>
            <a:ext cx="3276360" cy="1671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Great Murray River Houseboat Adventure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2666880"/>
            <a:ext cx="233352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733920" y="3200400"/>
            <a:ext cx="2133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33cccc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River Cruis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876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Great Murray River Houseboat Adventur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09680" y="4876920"/>
            <a:ext cx="2514600" cy="1676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533520" y="0"/>
            <a:ext cx="83818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ictures of the Murray riv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3" name="" descr="Fun stuff for kid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05520" y="49528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Heritage Paddle steamer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Canoeing and Kayaking on the Murray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3200400"/>
            <a:ext cx="1981080" cy="1305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Explore the Malle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666880" y="3276720"/>
            <a:ext cx="1676520" cy="1218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Welcome to Country"/>
          <p:cNvPicPr/>
          <p:nvPr/>
        </p:nvPicPr>
        <p:blipFill>
          <a:blip r:embed="rId13"/>
          <a:stretch/>
        </p:blipFill>
        <p:spPr>
          <a:xfrm>
            <a:off x="4952880" y="3200400"/>
            <a:ext cx="1352520" cy="1295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6705720" y="3200400"/>
            <a:ext cx="175248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5"/>
          <a:stretch/>
        </p:blipFill>
        <p:spPr>
          <a:xfrm>
            <a:off x="3505320" y="1905120"/>
            <a:ext cx="1885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c3035a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362320" y="304920"/>
            <a:ext cx="4647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ictures of river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33" name="" descr="http://www.rosalieforest.com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133720"/>
            <a:ext cx="1905120" cy="1676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http://www.hickerphoto.com/rainforest-rivers-9181-tile.ht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21337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http://www.mvs.usace.army.mil/Rivers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10080" y="2133720"/>
            <a:ext cx="175284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http://growabrain.typepad.com/photos/south_island/rivers.htm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480" y="44956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See full size ima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76720" y="4572000"/>
            <a:ext cx="1352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2120" y="304920"/>
            <a:ext cx="73911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ow we can save river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2438280"/>
          <a:ext cx="8229600" cy="3560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 Not take so much water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 Buy water tan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 Try to reach how not use as much water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ater once a we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don’t have to long showers and only use water when neede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07:23:57Z</dcterms:created>
  <dc:creator>Therese</dc:creator>
  <dc:description/>
  <dc:language>en-US</dc:language>
  <cp:lastModifiedBy>anastasia.hughes</cp:lastModifiedBy>
  <dcterms:modified xsi:type="dcterms:W3CDTF">2009-04-06T03:22:10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